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F1B-9C65-4BEA-AACA-C9F86917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37A-FEBF-48A4-A734-4A998046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D32-7E02-4980-BD21-19E75947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DAF-2FD4-417A-8981-B4250BA5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DD2-445C-456E-8ADF-CF3E30FA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4B4-BAD3-4278-AEFC-10E818C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FDB-7B4A-4307-B3DF-96554592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49A-AE82-45D7-BE03-BCB0ED1C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B79-6E1E-4AC4-AE20-921BA3BC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2CA-F99E-4B76-B790-DF099C16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CA4-6308-4AFB-8106-51C401B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517-BA38-4DB7-AA71-A0D32DEB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43D6-EDF2-4EE0-94EC-77E52EBE0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7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666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990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3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use balanced equations to help us find out how many moles of substances there are in a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438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ith a balanced equation, we can also find out a ratio of one substance to anoth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20 mol of Cu and 10 mol of S –2 to 1 ratio of Cu to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886200"/>
            <a:ext cx="7467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 List the mol ratio for the balanced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 +  3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0292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l of H for every 1 mol of N produces  2 mol of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ing Re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193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a reaction, an insufficient quantity of any of the reactants will limit the amount of the product that form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9051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real life:  having only 1 cup of milk for your repcipe when you need three…the milk limits how much your recipe will 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0481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miting reagent: reagent that determines the amount of product that can be formed by a rea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962520"/>
            <a:ext cx="6400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action occurs until the limiting reagent is use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figure 12.10 pg. 3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ss reagent:  the reagent that is not used up in a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295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ecause of a limiting reagent, some reagent is left over, and it is ex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819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sts often try to predict how much product will be formed when a reaction will tak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733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ercent yield can be calculated by dividing the actual yield (how much was formed) divided by the theoretical yield (the maximum amount that could have been m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9528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ercent yield really is the measure of how efficient the reaction carried ou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4:17:27Z</dcterms:created>
  <dc:creator>jpak</dc:creator>
  <dc:description/>
  <dc:language>en-US</dc:language>
  <cp:lastModifiedBy>jpak</cp:lastModifiedBy>
  <dcterms:modified xsi:type="dcterms:W3CDTF">2008-01-07T14:39:40Z</dcterms:modified>
  <cp:revision>7</cp:revision>
  <dc:subject/>
  <dc:title>Note guide 7-3</dc:title>
</cp:coreProperties>
</file>